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6CB-E9A9-465B-A585-636F4248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BF5-E11D-453F-BBA1-E9D94145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9CE9D-D4FB-450A-8187-641A7193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1737F-5BBC-40C2-8A37-841EC186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10B22-3FAD-4A39-BE66-7A36326E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30C22-9EC1-4C0D-81B5-9B91DD95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75F58-3A33-41BC-93BE-03B3860D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C4B7D-6C88-4FAE-9222-FA9B7B30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F9BA6-2CD5-4E72-960F-D29B5B03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22990-6039-442C-8B13-6C994176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35B30-B745-4992-8D44-538C18BF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0D79C-EA13-4E8A-B77A-B9617820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DB3-D1E3-4E0A-AE82-7B250BC7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8E473-2871-4987-BA88-B6D0A81E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04262-E061-49AE-BCF2-0FC4AD17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8153D-A3A1-4E5D-9824-1A636B67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6FE9F-7EAB-4B2B-ACE2-BB82BDB9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7D62A-BCB4-41B8-9B2D-9796C639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DA154-3DDC-468D-A9CA-FED7C33B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B6356-D9E9-4279-A4A2-52F25CC0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6DCB7-4D6E-4F37-936C-07744B2F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F1D64-7202-4D16-A63A-C9B7822E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615BB-5BE8-484F-91A3-022AE37A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B6A-9951-4068-BFA6-139E414B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77E58-887B-4F33-B0F7-BF78C79D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B33C6-5D01-4AC9-AC73-61B879AF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91734-C880-44FE-B820-4AF1F2E8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C40E8-178B-454E-9253-C4CA6482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1A441-3B57-48F0-8C30-B604D15F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9BF71-7B8B-4C70-83C9-34D70AB0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B612C-7528-4126-B7A4-373F6DFC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C9BE6-C31F-40B1-B8E3-297B9B61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9AB3E-0ADA-400A-B537-8A48F164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9F249-1BFF-497D-9104-CCA1A74C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AF081-5C83-4F25-87EB-908B583B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CA3A9-A797-4BCA-8410-8CE3C74F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D5961-B2AC-44DD-B5AE-DFAAB721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1775B-7424-4D16-AA29-94641349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E146B-02C0-45DD-B3F0-23A8470A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84070-E867-47B0-94C5-7B12BC6D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6B923-ADEF-4ADD-A807-55CD386B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35D9C-90F1-4DC7-A9DC-60CB1196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CDB62-A24D-4F8A-9E69-32C337E0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08D65-92BF-4226-9759-E27B6495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0A89D-DE33-4939-A3E0-E7F2F54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648CA-8A8A-43F3-BC2D-1DD14F2D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357B3-CAF6-4F9D-93D8-F595C112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A4E9A-24C0-41A8-8387-91129EFA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9A773-EE6E-4278-B7BF-5980EB63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AA50E-A3C7-419E-B3C5-539591BE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58694-EFA6-4ED5-BF03-0F55EFE7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AC84C-550E-42BB-8348-A92D7C48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558AA-93A7-453A-897B-E46D608D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040B9-86A8-4943-AF71-1430B9EC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12D7C-57CF-4E09-B3F0-838471EC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18483B-7AE1-4A96-9E36-F354F2AB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B2DB7-DE0B-4DCD-A22B-EACBD99C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CC1DB-C4F3-42FA-AC71-05C34391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D24CD-8BE7-459B-83B1-CCD65545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A00E5-3DA8-49DA-A64C-1CCB8CAD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A3C27-CE90-46AB-9B73-6083CD06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94C8E-C308-4A17-A70E-A6E5A771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2948C-4D6F-4B47-A693-9D60DFAB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FB735-C138-42CC-A491-FA4F53A9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24FBCD-D1A4-48AD-8A99-99BD09A4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AB125-9769-4986-B60D-8AA24FE3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21323-82DD-48B4-89E2-6A87ED10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D2E14-B0AA-45BD-B976-5FBEC0F7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69CA0F-4BC0-4778-8D11-573C6B6D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23BE2-82D6-43BD-9B82-063D6D98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5E6CF-11A4-4989-8DC8-8AB04950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A9C3A-9687-42FE-9421-49976518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E29F1-A6A7-432D-9C23-9CF21363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EAAB33-0387-4D87-A183-4404E0AA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AA635-8C17-4AA0-91FD-3B86E2DA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78334-3EA1-47F6-B9E6-264C67CA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75255-D14E-41F2-AD5F-40FB278E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83BF3-928F-4779-94B3-5D3D62D6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E462E-F85D-4367-8A52-23D2A9BA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2569F-408C-4E3E-A2EF-D2502079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8B67B-DC44-4B4A-9B1F-CBDEE141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F0E09-5304-416F-9970-6E827971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BE0A3-18A5-4801-B885-31F48114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55B07-01B3-4849-ABE4-6B57959F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A5E627-32FE-46EC-BECD-DA4DE194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9FC6D5-DE3F-4EBA-ACB7-D04AB269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F967B-181C-45B5-A4AD-4E50533D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AB776-B8EC-4D90-8E72-AE2CB829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D6422-2773-4A11-BDE1-8EECB8BB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950DB-FA0A-493D-8602-011D45CC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9739AB-BADF-49A1-81EE-094EBB04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113B42-1954-4D77-9793-C7A820E0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8351B-ADA1-4011-959E-035E4728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7EF8A9-CB3F-4C5C-AE9A-B40ECCDF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094DC-6E72-4DFA-9589-5879C81D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92461-1A76-40A7-8901-58CB7C0A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287EE0-F56C-440D-ABF9-13C68E63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706E0-CA41-4BB0-B20A-07237D03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3C8DD9-60F1-42B2-AB32-461D60A7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E90E0-2A2F-489A-87B2-375BA09B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4103A-4556-42A3-8B83-F5F57555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4B3BAF-C699-442D-8D0C-E36114DF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9073DA-6002-404D-815C-F1936BB3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5BF672-9B0B-43D2-B988-11FB3D0C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D8747-30C2-445E-B6A4-F6517A85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98354-C374-40A7-BC66-11527584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DBB951-B86C-421C-A401-11DCF83F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23F31-5A73-45B4-8A88-F6A2FE10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45142-2B8F-4044-A329-D466C056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B51704-FBFE-40F0-A1EE-9267C9B4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066F4-69A8-44D6-9D58-EFE53599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77B-62AD-4CF6-A898-99D9112C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11866-C793-442B-882C-4B2BF12E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234273-2AD0-43F5-AF5F-FA827969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C6CF16-2BA1-4F71-835C-3509D1A2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63F98-3104-49F3-ACA9-A78A391C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C1B111-9EEF-43DE-B682-2A6A6FFB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CFB35-857D-48DD-8A46-3EFAD98B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D79A0-5B62-4B13-AB90-A117A242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C711A-8077-4B8E-B5BB-CFFB624F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3F17E-F790-4261-9FBF-861F2539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BDA62-A162-4B26-B073-AB65DAF5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E6DF3-C77D-49E5-B8B9-0F10132D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7E79E-C98B-426C-A94B-311A3C75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258D-B64D-4BDD-B0A3-F15D172D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854F1-265A-474F-A37F-4553DD27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8BFE9-4418-44E0-94BD-93B9E038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056-AB84-4AF6-9433-CCE4C7FF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259B-DF34-4A14-9C70-8AA8688A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1898-D37C-4068-A340-A56210FC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E866-3CF7-4266-ADD8-0B85CF1E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60E60-2B3E-43A3-B790-228D2509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1CF6C-EB9C-4DFA-8576-DC907EBE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59837-A586-4E63-B981-BCF47270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A222-ED30-49D5-81FF-0EF078EB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B85BE-F3EE-4633-904B-0D21C92C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B65AB-D2A4-4D02-89AC-51F16AF4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EF087-26F2-46E2-8044-BE4E5FB8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49B-F0CF-41C0-A502-D031885D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0ACB0-1FA4-4E20-885C-481DBE00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E64F3-4A91-48DE-BC1C-C99945DD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51B2E-A070-4430-8178-6E3A75F3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C747E-F11D-48EA-85D4-295878BD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F1340-1229-4FA8-9E23-62406B0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A09BB-AB63-4A39-8109-5926C81B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FC2D2-7508-4745-BC9C-CC005A66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9AB73-E5C2-4F3A-BF06-198E5DBB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C34B1-A60D-4B2B-BED5-A349DDB2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7E84C-510E-4856-A694-06D44D20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FA3-DDE4-4E4B-8615-B4BDC352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8DFB2-CD21-4ACD-A61F-809963C2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CFB7A-3FAD-4EC4-8F3B-BA14EC1C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97222-C97B-4CD1-8FB8-5CC70200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ACDE5-7184-4F7F-BA43-0531DF8A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9A33D-3BF6-40AA-A993-E4BE3AE0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233E3-8F45-4F3C-A4CD-2F273228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D1EAC-7F89-4C40-B019-8B2E3D79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F6D48-7021-431E-AE6A-4135BB38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6C4F4-0FB2-4FA1-A7CB-30269F1C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495F3-E932-4327-9C6B-3486C0B7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D39-BC94-4CE9-9351-A6201CBC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8FC31-005E-43E9-944F-B5E8B122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8FEA4-991D-4398-86AC-58C1ECD9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05B1A-8DBF-4BB0-B8FD-27B616A5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E95DB-2E8D-4314-87B3-2E39A85B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21574-0D60-4488-86A6-BF423850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26B62-AD4C-4BAC-ACD1-5BC22F8A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9EB27-C92F-4CD1-93C2-920AE09B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2A534-D0D0-4566-AB80-90B40C8C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F463B-D98C-497F-8101-9EB7A1BF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DE0BE-7E40-4F36-987B-A2A597B0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6D2-8901-4BF8-8A8F-DE293DE4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29A0E-F024-432C-9648-816277DF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E6D10-C4BC-44C6-8373-3A4E7F55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8C179-FF31-44E1-B16A-4A95D427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56A48-0593-467D-B5B3-34F68A84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66A4C-86E7-4FB2-8995-FC8B40BD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21BF1-4CD6-4D6A-AC64-F9EBF1CA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C8E90-372D-48A3-A9A7-E32670FB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3384F-FBA0-4345-89DA-D95C00C3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A4B16-1C21-46CE-9608-216DAD40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E9368-860F-49AE-88E1-27D0615B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C42-A2A5-4B78-B811-F12D829E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1B30A-691D-4071-8060-9EC27051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40AAC-60F2-4CF7-9C41-A0381047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26276-7E90-460A-8BB3-F4AD8155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790F8-F5BE-4EBE-A56C-EC06EC3D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CDAFD-CACC-4F85-A704-C9EAC3C1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548BB-B88B-431E-AB07-25C9951D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49930-5447-4A8B-8942-B6C9FCCD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7C1A0-110A-41AE-AD64-8798F818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EA5DA-8D2F-4D64-95BF-F8E42489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24F22-F189-41F5-A7FC-E9ECADF5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A97-D22A-40D6-A524-36ED6BBE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EAF31-612E-4A74-B56A-364C612F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5DF80-4461-4FF6-AA33-F2FC086D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F3478-5BD0-44FC-82A8-9A9B9A0C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078CD-189A-43F0-BFBE-C139017B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CCDDC-4E0B-47F5-A6FF-BB839BBB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2E82A-BE36-41F8-9A64-4A114637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E2BD6-69AB-46F0-9688-6F580BC0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67772-FE0D-4546-ABB5-2A9D57FF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A2023-FAB3-4494-83C3-25DE9885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20542-E5FC-4676-9B7F-5004AB2B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26B9E-4608-4723-A527-3D8A511B01C8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AC6C4-7714-429B-8EAF-D1EE8D3E41D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E8F05-C814-42F1-BD47-924B899F710E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7EE01-57A4-43E1-9EC6-CA81574DABE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E6BB5-7B69-4BCF-96DB-F42787AABE60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FB3C9-CD9F-487D-9A2F-F775E71DC00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F777F-EA37-4E6D-A092-F510C0ED3B2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3E1B8-B267-4AC5-8873-AD164126876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9BCC3-D32D-42A7-9B25-9210A4D8397E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8A5C7-1906-4082-83D2-21D6ADA8B2B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F2B96-8BAA-4AC9-9A43-87C4C1655AF7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633B1-02C9-416F-A392-489E63F6F57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D256D-73FB-42E8-B761-04667736C347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8F057-5E9B-486E-98ED-C75262192B9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51C1E-3C74-4890-AEE0-DDEA77F4F98C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E26A5-44F8-41F5-BC67-945AE5DD8F3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FE2D5-47C3-4087-91EF-94B89E63C20C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05C77-D5FC-4C47-ACF9-DE26C0344A0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5CCCD-FF43-4917-AA94-9459D54FCF4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FBFF1-5E5A-4E76-A450-5056F04F4E2E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EFB02-5A8A-4CCB-B9C9-EE6CAC7750CA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763FB-5BA0-498F-95AB-7A62926659C0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AF95B-F471-4A95-AD50-170671DD03DF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D374A-C6B1-45D1-98B1-422D41B2510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5D5F7-4902-432E-8A22-2121B3DC31B1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FC2EF-25D3-4716-A672-BD448271416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779A7-97CA-4E6D-A76D-AB1549897EF4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87724-CCC9-4318-BDAF-6EDAF6A31ACC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4D1B3-7CBF-42E3-A9E4-4BF89816D048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8DB04-9DE4-41ED-969E-874DF9C407CF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EDE52-0A8D-4EF8-9CF3-B3453C467F29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938F9-78EA-423C-B62E-6231E3BB6DF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0C4B8-2469-4E30-BCAA-B0440F18D909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79FD3-DDDA-4A3F-96B7-7ED1D9BB285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dc.gov/malaria" TargetMode="External"/><Relationship Id="rId2" Type="http://schemas.openxmlformats.org/officeDocument/2006/relationships/hyperlink" Target="http://www.who.org/diseases/malariainfo" TargetMode="External"/><Relationship Id="rId3" Type="http://schemas.openxmlformats.org/officeDocument/2006/relationships/hyperlink" Target="http://www.webmd.com/conditions/malaria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-457560" y="10666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Malaria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-457560" y="2895120"/>
            <a:ext cx="6762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By Mr. Shann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36" name="Picture 3" descr="malaria-sick-child.jpg"/>
          <p:cNvPicPr/>
          <p:nvPr/>
        </p:nvPicPr>
        <p:blipFill>
          <a:blip r:embed="rId1"/>
          <a:stretch/>
        </p:blipFill>
        <p:spPr>
          <a:xfrm>
            <a:off x="838080" y="3990960"/>
            <a:ext cx="3005280" cy="202896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4" descr="62-malaria---mosquito.jpg"/>
          <p:cNvPicPr/>
          <p:nvPr/>
        </p:nvPicPr>
        <p:blipFill>
          <a:blip r:embed="rId2"/>
          <a:stretch/>
        </p:blipFill>
        <p:spPr>
          <a:xfrm>
            <a:off x="4910040" y="3952800"/>
            <a:ext cx="31323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laria: Symptom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ypical symptoms of malaria include fever, chills, vomiting, and anemia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re cases of malaria can occur quickly (over the course of a few days) and even result in death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laria: Transmission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alaria is transmitted by certain types of mosquitoe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fected mosquitoes bite people and pass on the malaria parasite into the human’s bloodstream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e parasite then lives and reproduces in the liver and red blood cells of the infected person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42" name="Picture 3" descr="62-malaria---mosquito.jpg"/>
          <p:cNvPicPr/>
          <p:nvPr/>
        </p:nvPicPr>
        <p:blipFill>
          <a:blip r:embed="rId1"/>
          <a:stretch/>
        </p:blipFill>
        <p:spPr>
          <a:xfrm>
            <a:off x="3632040" y="4800600"/>
            <a:ext cx="2557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laria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laria sickness is caused by the malaria parasite, a tiny one-celled animal known as a “protist.”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re are four species of the malaria parasite: </a:t>
            </a:r>
            <a:r>
              <a:rPr b="0" i="1" lang="en-US" sz="2200" spc="-1" strike="noStrike">
                <a:solidFill>
                  <a:srgbClr val="ffffff"/>
                </a:solidFill>
                <a:latin typeface="Trebuchet MS"/>
              </a:rPr>
              <a:t>Plasmodium falciparum, Plasmodium vivax, Plasmodium ovale, 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and </a:t>
            </a:r>
            <a:r>
              <a:rPr b="0" i="1" lang="en-US" sz="2200" spc="-1" strike="noStrike">
                <a:solidFill>
                  <a:srgbClr val="ffffff"/>
                </a:solidFill>
                <a:latin typeface="Trebuchet MS"/>
              </a:rPr>
              <a:t>Plasmodium malariae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rebuchet MS"/>
              </a:rPr>
              <a:t>Plasmodium falciparum 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is by far the most common type of malaria parasite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laria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46" name="Content Placeholder 3" descr="Malaria.jpg"/>
          <p:cNvPicPr/>
          <p:nvPr/>
        </p:nvPicPr>
        <p:blipFill>
          <a:blip r:embed="rId1"/>
          <a:srcRect l="-48467" t="0" r="-48467" b="0"/>
          <a:stretch/>
        </p:blipFill>
        <p:spPr>
          <a:xfrm>
            <a:off x="3657600" y="1425600"/>
            <a:ext cx="5907240" cy="4208400"/>
          </a:xfrm>
          <a:prstGeom prst="rect">
            <a:avLst/>
          </a:prstGeom>
          <a:ln w="0">
            <a:noFill/>
          </a:ln>
        </p:spPr>
      </p:pic>
      <p:sp>
        <p:nvSpPr>
          <p:cNvPr id="747" name="TextBox 4"/>
          <p:cNvSpPr/>
          <p:nvPr/>
        </p:nvSpPr>
        <p:spPr>
          <a:xfrm>
            <a:off x="1066680" y="242892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s is a photograph taken with a microscope of the malaria parasite swimming through the cytoplasm of a cel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laria: Prevalenc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laria is most common in developing countries in which many poor people live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laria is also common in tropical climates along the equator, as these are the best for the mosquitoes that carry the parasite to live in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 most cases of malaria are seen on the continent of Africa, but malaria is also very common in Mexico, India, China, and Southeast Asia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laria: Treatmen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laria can be prevented by taking drugs such as lariam and mephloquine, which kill the parasite if a person is bitten by an infected mosquito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se drugs can also be used to treat malaria once a person is already infected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Other methods of preventing transmission of malaria include the use of bed nets, which keep sleeping people from being bitten at night by mosquitoes carrying the parasite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Analysi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 best way to solve the problem of malaria is to focus on prevention strategies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In other words, it is much easier to prevent people from getting malaria than to treat it once they have it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revention strategies include the use of bed nets to prevent mosquito bites, the use of drugs </a:t>
            </a:r>
            <a:r>
              <a:rPr b="0" i="1" lang="en-US" sz="2200" spc="-1" strike="noStrike">
                <a:solidFill>
                  <a:srgbClr val="ffffff"/>
                </a:solidFill>
                <a:latin typeface="Trebuchet MS"/>
              </a:rPr>
              <a:t>before 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getting malaria, and the draining of shallow areas of water where mosquitoes breed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Resources: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www.cdc.gov/malaria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2"/>
              </a:rPr>
              <a:t>www.who.org/diseases/malariainfo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3"/>
              </a:rPr>
              <a:t>www.webmd.com/conditions/malaria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7:27:54Z</dcterms:created>
  <dc:creator>Eric Shannon</dc:creator>
  <dc:description/>
  <dc:language>en-US</dc:language>
  <cp:lastModifiedBy>Eric Shannon</cp:lastModifiedBy>
  <dcterms:modified xsi:type="dcterms:W3CDTF">2010-02-28T18:10:45Z</dcterms:modified>
  <cp:revision>2</cp:revision>
  <dc:subject/>
  <dc:title>Malaria</dc:title>
</cp:coreProperties>
</file>